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E683-559E-42D3-AA59-90205D26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4866-2B4B-439C-A387-7FDE1697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2989D-97CF-490C-A804-AC9764325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612C8-892C-4E75-9E24-5C3BDE49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21A415-3C12-4F02-BE97-272045E9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80B60-5519-4EFA-93FF-7C3E142F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02250-6927-42D8-A249-540B127D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C7E97-8048-47B7-BE0F-B634A629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39C8E-9B7E-410D-AB3E-FBA6F74E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3A453-0C34-4EB0-9244-BB67434F2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A1A1B-6769-4C05-9CF1-E2EF4D6D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E94F2-826B-4117-ABF5-331E4AC2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B80E-536F-4E14-BA14-95F8E63A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F3933-C938-4FFC-BA41-8FB0EC8E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04AE5-2C69-46D0-9594-EBBE5CD9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56F3A-EBE7-44C9-9970-3A3B8384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A6BFD-F1FF-44E0-9E72-ABC18E7B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4B5E1-3823-4C0F-88AA-52A0570F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A6CE1-0379-42DD-90F2-0C9E4949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10874-598C-42B0-A991-A6707705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ED3AC4-C3E0-4C4C-B475-D6CF0F4C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4902D-3144-4273-84EE-AA2AD86D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816A0-3334-480A-BC42-DFBA02862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62EB-9B3F-4A4A-90B7-AB864099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24322-4E67-4E32-8E42-750256C5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16D60-EB2F-4AD7-BB44-3765AF26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20392-0C42-47E7-8DD1-0407E188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03B8DB-3CC8-4B75-B86A-61A5492F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82221-816B-403F-95CA-0A9D94BD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14558-2428-4B62-8748-6C9B3824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E4D7F-976E-4342-AC80-5816A187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B93E2-4A3A-4C1C-8EC2-DE1715BB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CC3A1-0A75-4EE3-9B12-37A3966B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D1FB5-AF54-4C6D-98A0-219913D1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8383-3DA9-44A1-9412-7CEEA53E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1FD3A-07F8-43F9-BDD4-39DAE8E3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DF49C-E0D6-4FEF-8103-3B283C8ED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234A5-C222-4FBB-949C-984ABBB9C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451C2E-3CB5-4CCF-8466-EEA4DD87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6C8BB-4816-43B8-8690-F93C2D87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A6B59-A39F-4C90-8CD5-B5F92B09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E368B-CEDE-4B41-8C20-6EFF352B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F029C-FE8B-48D9-A3A8-6A24B20A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FDF6E-C895-45EB-888D-7E278A13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A7C432-388C-433A-8114-C1309EA0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EA92-7004-4B70-B535-B306784B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2A478-C31D-49D2-8C01-BA4C9EBD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AA31B-E52B-484F-A32F-6DAAE9C4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3AD96-64CF-4144-B42B-EC05A5E7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9EA72-920C-490A-863C-5B3D3C71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6DA6B8-4669-42BF-84CE-8500C54AB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0B851E-2A23-48FA-BA33-C9FA79B6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872E58-B8BB-4C95-A8B8-44D3938D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AC1313-FD18-4E39-90B3-AB82E472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8DA43-EBF0-42EA-9E92-9E33ADC8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C4A65-DF51-42C6-BA10-808209F1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9504-B3B7-4C08-B333-AB0AFB2A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EAA95F-3D7B-42C3-83EA-C67308DD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34DF71-EA1B-4576-B310-9FD0A97B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7A2208-1B63-4CA7-8864-723AAF467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938366-491B-4D55-9171-524BB26D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8A3F37-18DB-44D3-A4E7-DD46AE11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3C61C8-3C08-410C-9F8A-268AEA1F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35634-474E-4E8A-9A51-1644947D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4114DF-E17B-49BA-986B-B7F93D82F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AE3A59-FE3E-4F19-8FEA-81D1A948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E0B453-4CFD-4F7B-BCA7-8DF626BA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E5F68-5BFF-4761-BBDF-A6C5BBBD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E6E33B-CBF8-408E-ADA9-302AA1D7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B97021-B157-4A34-B52D-4D95AAB5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D230ED-BE9A-473F-AF65-20B7CDC9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C7C3A7-9D6B-4E40-BDB8-D5750243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0AA5A5-C06F-4511-A838-634F241D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39E199-5F01-446E-AA38-D3094EB1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D971D8-A03D-4584-9C50-E791449B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39BF18-6B5C-4C1D-A7DC-77C225CE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848AA6-8EB0-442B-AEEA-C30A60D4C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BB1980-67DE-4564-BA3A-44A10337D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D8A0-D452-4C78-8A4A-DE334D4F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6BCEC3-C783-4848-9CB9-D936B938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C77E80-A12B-4EA3-A9E0-5A776365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AB4374-6AE1-4962-939A-2504B4A6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8FFF5C-3F0F-46C2-809B-32121097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EB2981-0A0B-4567-939A-C8A192AF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6B2630-979C-4F95-A9F4-E3DD18CF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F9A4F3-784E-4BB7-9887-A42BFCDD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61AFD8-8AE4-40AF-B4E5-5AF7E113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A53084-B159-450E-B524-4B3FB43E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03A83C-2859-43B7-87D8-682A9AB4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C5ED-9208-4F5E-A67A-98DCE03A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D37F5-A2E5-4ED6-9B95-60070D841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AAFD8C-A45A-4578-9EC9-01ECA983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4318DA-159D-4C8C-A05C-050D2BDC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FBDDD4-B2E8-47B0-932F-411C71BB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E81332-789B-47F5-8455-3165FB87D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4DAD6A-A420-4F93-A176-DD522887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1F58E9-2E2B-4121-8AFC-0BC45974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D74DF0-BD23-4443-9B4E-B03580C4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FC657F-9269-42F5-9D9C-5E92EE08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7DB11A-3A43-4263-BF15-2109E185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4375-6A9F-4190-B7E4-F4F48A40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52B373-A7DD-4230-8E9F-3C59AE58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22D7D5-D6F8-4839-8103-F2AF760D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7135F8-CFF6-4AB4-9BA4-019721BAC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708FA8-7513-4FDC-904B-CD953E23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A0F7FB-4B9F-470C-9577-F6042302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4E8BE3-5A61-4095-929A-225AEB28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F0BB0C-E788-42BF-946E-D5D372E0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E13E09-A42C-4952-A1F7-B8237846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6355C0-FB5F-4B5A-AF14-3DED8050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2E50FA-F778-4D5C-8058-CFE49530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68AF-F459-42E0-9BF2-849D40F1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153D-2CCC-4B67-8847-F65D3B02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BB7697-11C8-45C0-B32D-97BA5F38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108411-48C8-4ABE-8ED0-E9788DD9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4A1C30-CFEE-4EFF-A514-B57742711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107F49-045B-47C5-B1C2-AE969DA7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51D801-E4BB-4928-931C-0B8B2F62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ABB717-AFDE-4024-9427-68AE6DE4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21CDE5-3606-4C49-BC1A-899F4D52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1D0F3C-B4BF-44C1-95CE-606F53D8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BA8695-CDCE-4B1E-ADE8-AC365FF9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9CA3C3-6BB5-4199-953E-0A07C513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14660-5683-4A0D-AD39-6AA1B85B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AAFA54-A251-43BF-8F75-751A9ACD9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144C02-CB3B-42F0-ABFD-D0F35285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E1A6E9-1B3E-44BF-95B6-E39060E9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CA507D-39C6-4C35-A970-1FF0886E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45E8B9-F2F5-437B-889A-2BEE9F7F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61C4DF-6627-485F-A7E3-1A8F64A6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7BC721-C65B-4AE1-BDDB-4E16FCF7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DF6CA1-0215-4A23-8B5E-0D6D83F3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E08613-27CE-4CF0-9AD5-474B552F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CF45E3-06FD-4459-85E9-29C4E167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7516-469B-42DD-9170-5D7D9866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542A6F-2A62-48A0-A7B6-2477E5A22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C6B76B-6CAF-40D3-89E3-D4761A7A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D61BA8-9A16-47CE-B5BF-EC38A8A6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EA4885-7E29-41D4-BA2E-5E163C69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9C3263-88AD-4971-BE3B-35E39B26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F925EC-B6DC-417F-BABB-CD338380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7B5771-27DB-44ED-AD6F-D2F7C49E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997B78-0F38-449B-B750-81B117A4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8390A4-DA37-4929-A6EC-B2202084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E64D36-6BB7-4293-A305-6113F6AE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0F55-95FD-4A5F-B7CD-536245A7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F6C118-4821-429C-A9A6-BD1AE389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F81865-E5F4-45F4-901F-96D79F60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6FF544-C6FD-421B-BE38-7B1602FE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15D0B4-2703-4888-A903-CCE91816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93BEA5-B411-4059-AE56-292E21D6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4DA865-6F67-4B2E-BFD2-F9A9187F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9C18D4-8A8B-4A3D-844C-AAC22312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69FE69-BBDC-420A-8826-3E3322BF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21867A-F7D0-4F23-8BBF-21881038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970163-C404-4B77-A7CE-1028CF42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C8F5-E888-4DB4-8FC4-FCDC58C2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A1205A-DA19-4AA7-83DA-136C390E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EE6C6C-3E40-48EA-98D7-2ED040BA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74CD5C-9891-4FAE-A19A-66BB8EA4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4B2189-1EA5-40AB-9404-9D55D752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C4F4D1-35AA-4579-8EDF-9EC54E57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49203C-F355-4A38-BFA9-C5B39423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B7A40B-7686-4CAD-837D-990E324B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4E39DC-2A90-4009-A5A8-E7BD6027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EACEA4-16A6-4D2E-8286-198508E0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1FC92F-F542-451D-BD2E-3E2221C9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44AF5-D08B-4273-9BB8-8DB940CF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581B42-EB55-4C5B-8E54-B2D875DB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21340D-F2C1-4F8E-806D-B6B722F2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1D6FFB-468D-4164-9B33-8CFD4EEFD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889D10-BDF1-4257-8070-64EC38F4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856CE1-B00C-40EC-88D7-CE8B6E4A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4C9EA0-7F91-4673-960B-0D4FCC74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D56654-B386-463F-99C7-2F4B1CCEA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B86BAF-B4D2-4813-9A7E-2F08E575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44BD91-10C8-4811-BB55-ACC04D41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C7A6CE-1204-4E11-A955-C86ECECE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B21AD-0AE1-4B77-B038-56F1B39B2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9A617D-D6AB-4BB6-BA59-4774D8DC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BBD6FB-2CB0-4975-922E-D4F7FE50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339FFB-D512-4B68-B1A1-7588B7E1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AC39CD-8029-4CB9-8460-FECE304A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9F011D-B10F-4303-8475-14DBBB25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F0CC5-2ECC-4DE9-8759-54117E7A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D6DFD-66B1-404D-B11F-21FD74EB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AFAC0-59B5-4EB9-A081-2CEDA7A5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9AAD-AF28-4B84-A1A8-C565D8DC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4AFB5-E714-4C8B-82FD-F1EAD119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91785-5101-4176-8985-5436FA7C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1A333-1FD5-4202-92C3-649BEBC6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4CFFA-9E90-4358-929D-6682B214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E43FF-9CBA-4FF0-955B-D0FBDC59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D12C1-674E-4D84-9A23-00224145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1E062-B7AD-4AA6-B619-B1E17CCF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2CC7F-E3EF-4BE0-B085-7676765D9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46BEF-DE65-4505-A7A4-2CE0FDA5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4BEC9-0DC7-4C83-AA22-79AC8416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5CC7-6C01-4EB6-B086-9C8CBF2E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627F4-86D2-4947-8EC6-9F11E5E6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F7081-5374-424C-9E96-4CF0E524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E9E59-FE50-4930-BDF9-EE27EC3A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20D08-07BD-4A88-9445-46B74807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6BEB3-2FFF-44AB-8092-F453D9E6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57415-57FB-41B9-9725-91D281F5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1B04A-36F3-4935-B0D4-74541B99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DE74D-5F14-4CCB-B9FC-801FED39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CBEF7-908A-4019-B437-E7DA0323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D6B9B-B096-4DAF-B09A-EF9A93B74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273-9B65-4AF0-B3D5-66B1D1B4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329E7-F3C2-45CE-922D-E18935AC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3DED1-7FA8-4E2C-B393-EC2A0A65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AD91D-8538-4DDC-8712-8548AF5E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E799B-8942-42EC-BB27-77804928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1B948-ADBE-4C0F-820B-9D460C9C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D325E-8B74-44F4-B1C2-9EFA056F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C3981-BEC6-4F86-BF3C-ED773EC5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84BF9-03BF-4DA1-869C-1B18D251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706D0-E2F3-427E-878F-88B093EE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4B254-F5A3-456C-A736-0B015A5AA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EBE6-93E3-4416-8B71-988427F4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8B3E1-DEC5-47DA-8AFB-CE55089FF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1F2A0-784B-43F5-81F0-31F60509A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DF588-4C67-4C7A-86E6-01575732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08B0C-4657-44E6-B49E-9B9AD58F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2B77A-3C4A-4163-AAEC-FCC28F1C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EE1EE-9373-4A1D-880A-E1E68B0C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B3B51-E78B-4DC9-B321-051DCE41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00B1C-A887-4B95-9A3A-8B372791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FCD9A-50BA-4FAD-8355-3F3C16A7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91462-7176-4054-BE1E-41032711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E46-04DB-46EF-8601-735BCCDC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99DCA-C647-4BF3-87BD-4EBBC8CA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49887-8A01-4D0E-9598-3605ED50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FEE531-B22D-4E4C-A308-7BDB8BD10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F98E4-B314-41F7-BD5D-A23186C2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D2DCF4-B1AE-4CCB-8F4B-5FAE5989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672EE-B798-449A-9046-7596DCF7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A9708-FC52-4C90-B5A7-A4458A45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42850-12B7-4552-8DC3-AA355ADA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80AF1-5CBA-4236-BA1B-DC5E2A97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6EA72-D355-4B54-81AE-01DE6A59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F2F-086C-41A6-A5D8-527D45B9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F0954-42AF-4231-892B-460C7ACF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0F15D-5A67-4E0E-A77B-90DF0E64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9BEE8-9272-4BF2-AEA0-FCFEEE86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D72D9-5431-4C72-BDD1-A08E5552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66308-0CE7-4B94-8D56-5E92C4BB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0798C-DDF5-4D8E-AB51-E4DFE8F27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28760-7A0A-4683-9892-8EEB4559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BC60D-F09E-46FF-B527-494703EB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D2F9F-944D-4CE3-9347-483C9357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D53841-5C27-40DB-B61B-8B7F2BB1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B69-E04D-41AB-A737-F6B0CD40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22CE9-39AE-4FE6-9CC0-5EBF2849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91D1D-E1E0-4D4F-875E-B685157D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F7E9E-F800-488E-8819-B8C5A64F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F401D-F073-454D-9386-8D420058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411AC-227C-49D0-B0E6-F1CAB7C1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52293-7EFA-4674-9F6D-321A00EA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74DE7-5912-478D-A3E0-7E040B02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7CF44-5AF3-41B1-9D12-6256CD14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63841-9810-432B-959A-31F855F9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076BD-E3BF-4DD4-B85C-B8BB9DC5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C562-36C9-4046-B354-956E4E751D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DDA5-322E-438E-B872-03496B7108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E6A4-28CA-4E9C-8674-BB4171E075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93D7-E8FA-4B1D-A3AD-8D847D1C2C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A5B4-A2B9-4EAA-AEC2-E0067C4200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9527-64B9-4F6E-95E9-CF62ECAE2A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7722-41C8-4C3A-9CBE-E8D186B782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2D6A-BF59-4AD3-A404-84BB470C2C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0F00-6319-40B1-B89C-755040A677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31C0-5515-4F49-A04A-71F710DE25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50FA-C7FE-45F4-81F5-A6D8ED8046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E4EE-8B9B-412F-BB37-16F61FBFB0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0E76-C1E4-44C8-A969-B0CAEB36D6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A740-E73E-4AAF-BA6E-BFEBC5342A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A89C-2431-45D2-B77A-ECA44D7DD7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E7CA-27C0-4B3F-B5D2-A7E5C54F89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A82F-8DA1-460F-883E-0E302BAD9D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4009-728E-42A1-87E6-51F08BD709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6047-2D8F-4555-8A3F-AC4E591241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8B70-10FF-4E89-928B-14FDF830F7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5C97-9578-4B6A-BF23-530961EA93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F449-E0C1-4BA5-8606-77DBF2720E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3A39-739C-4AF0-813E-F4E555B35D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15AF-6D03-405E-AB17-BA74703EBC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03DF-EA15-47AD-993D-62F06A94B1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879E-EDC0-45B5-8143-AD9351604C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DCE2-D9C7-466E-B6D5-1B17F247AB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18B0-34B5-46A7-AAD1-E204623074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8437-DB30-43CE-BCF0-7B0D50A3FC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94A2-4068-40A8-BA45-EA8F955AAF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1FBD-99D2-4B2C-B59E-37730AA2B2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3103-381D-47B7-A68E-454484A241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5F7C2-78C1-46D8-B2B8-E7AE72C382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D5AC-2727-4A3B-B736-AC24674D9E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C9E3-ED9F-47BF-9627-50AD88C09B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7CE8-4EF3-4875-8CE9-13A8F2E299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9987-863B-42AC-9C05-C98F9C58BC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C015-BFC6-4C73-A785-B539BF523F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5E7A-E4BD-4536-80B3-8AE1B1D439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F4CB-1B6A-4B87-9EB7-29600EAA00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FF04-6571-4257-BC3D-AC0765079E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1900080" y="3062160"/>
            <a:ext cx="534384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357120" y="1652760"/>
            <a:ext cx="8429760" cy="35524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2036880" y="41972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3333600" y="42069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3981600" y="422100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2050920" y="4797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3348000" y="48117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3995640" y="48117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6415200" y="41832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7711920" y="419256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8359920" y="420696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6429240" y="47829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7726320" y="479736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3"/>
          <a:stretch/>
        </p:blipFill>
        <p:spPr>
          <a:xfrm>
            <a:off x="8373960" y="4797360"/>
            <a:ext cx="289080" cy="2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图片 7169" descr=""/>
          <p:cNvPicPr/>
          <p:nvPr/>
        </p:nvPicPr>
        <p:blipFill>
          <a:blip r:embed="rId1"/>
          <a:stretch/>
        </p:blipFill>
        <p:spPr>
          <a:xfrm>
            <a:off x="195120" y="919080"/>
            <a:ext cx="8753760" cy="501984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2"/>
          <a:stretch/>
        </p:blipFill>
        <p:spPr>
          <a:xfrm>
            <a:off x="1490760" y="1557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3"/>
          <a:stretch/>
        </p:blipFill>
        <p:spPr>
          <a:xfrm>
            <a:off x="3635280" y="155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4"/>
          <a:stretch/>
        </p:blipFill>
        <p:spPr>
          <a:xfrm>
            <a:off x="5781600" y="155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5"/>
          <a:stretch/>
        </p:blipFill>
        <p:spPr>
          <a:xfrm>
            <a:off x="7899480" y="1557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6"/>
          <a:stretch/>
        </p:blipFill>
        <p:spPr>
          <a:xfrm>
            <a:off x="1476360" y="20034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7"/>
          <a:stretch/>
        </p:blipFill>
        <p:spPr>
          <a:xfrm>
            <a:off x="3621240" y="20034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8"/>
          <a:stretch/>
        </p:blipFill>
        <p:spPr>
          <a:xfrm>
            <a:off x="5767560" y="200340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9"/>
          <a:stretch/>
        </p:blipFill>
        <p:spPr>
          <a:xfrm>
            <a:off x="7885080" y="20034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10"/>
          <a:stretch/>
        </p:blipFill>
        <p:spPr>
          <a:xfrm>
            <a:off x="1504800" y="2492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11"/>
          <a:stretch/>
        </p:blipFill>
        <p:spPr>
          <a:xfrm>
            <a:off x="3649680" y="2492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12"/>
          <a:stretch/>
        </p:blipFill>
        <p:spPr>
          <a:xfrm>
            <a:off x="5796000" y="2492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13"/>
          <a:stretch/>
        </p:blipFill>
        <p:spPr>
          <a:xfrm>
            <a:off x="7913520" y="2492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14"/>
          <a:stretch/>
        </p:blipFill>
        <p:spPr>
          <a:xfrm>
            <a:off x="1490760" y="29242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15"/>
          <a:stretch/>
        </p:blipFill>
        <p:spPr>
          <a:xfrm>
            <a:off x="3635280" y="2924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16"/>
          <a:stretch/>
        </p:blipFill>
        <p:spPr>
          <a:xfrm>
            <a:off x="5781600" y="292428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17"/>
          <a:stretch/>
        </p:blipFill>
        <p:spPr>
          <a:xfrm>
            <a:off x="7899480" y="292428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18"/>
          <a:stretch/>
        </p:blipFill>
        <p:spPr>
          <a:xfrm>
            <a:off x="1201680" y="552924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1" descr=""/>
          <p:cNvPicPr/>
          <p:nvPr/>
        </p:nvPicPr>
        <p:blipFill>
          <a:blip r:embed="rId19"/>
          <a:stretch/>
        </p:blipFill>
        <p:spPr>
          <a:xfrm>
            <a:off x="1301760" y="5013360"/>
            <a:ext cx="216000" cy="191880"/>
          </a:xfrm>
          <a:prstGeom prst="rect">
            <a:avLst/>
          </a:prstGeom>
          <a:ln w="0">
            <a:noFill/>
          </a:ln>
        </p:spPr>
      </p:pic>
      <p:pic>
        <p:nvPicPr>
          <p:cNvPr id="995" name="Picture 1" descr=""/>
          <p:cNvPicPr/>
          <p:nvPr/>
        </p:nvPicPr>
        <p:blipFill>
          <a:blip r:embed="rId20"/>
          <a:stretch/>
        </p:blipFill>
        <p:spPr>
          <a:xfrm>
            <a:off x="1604880" y="453708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1" descr=""/>
          <p:cNvPicPr/>
          <p:nvPr/>
        </p:nvPicPr>
        <p:blipFill>
          <a:blip r:embed="rId21"/>
          <a:stretch/>
        </p:blipFill>
        <p:spPr>
          <a:xfrm>
            <a:off x="2081160" y="422100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" descr=""/>
          <p:cNvPicPr/>
          <p:nvPr/>
        </p:nvPicPr>
        <p:blipFill>
          <a:blip r:embed="rId22"/>
          <a:stretch/>
        </p:blipFill>
        <p:spPr>
          <a:xfrm>
            <a:off x="2627280" y="4105440"/>
            <a:ext cx="216000" cy="19188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1" descr=""/>
          <p:cNvPicPr/>
          <p:nvPr/>
        </p:nvPicPr>
        <p:blipFill>
          <a:blip r:embed="rId23"/>
          <a:stretch/>
        </p:blipFill>
        <p:spPr>
          <a:xfrm>
            <a:off x="3146400" y="4221000"/>
            <a:ext cx="216000" cy="192240"/>
          </a:xfrm>
          <a:prstGeom prst="rect">
            <a:avLst/>
          </a:prstGeom>
          <a:ln w="0">
            <a:noFill/>
          </a:ln>
        </p:spPr>
      </p:pic>
      <p:pic>
        <p:nvPicPr>
          <p:cNvPr id="999" name="Picture 1" descr=""/>
          <p:cNvPicPr/>
          <p:nvPr/>
        </p:nvPicPr>
        <p:blipFill>
          <a:blip r:embed="rId24"/>
          <a:stretch/>
        </p:blipFill>
        <p:spPr>
          <a:xfrm>
            <a:off x="3621240" y="4513320"/>
            <a:ext cx="244440" cy="21744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1" descr=""/>
          <p:cNvPicPr/>
          <p:nvPr/>
        </p:nvPicPr>
        <p:blipFill>
          <a:blip r:embed="rId25"/>
          <a:stretch/>
        </p:blipFill>
        <p:spPr>
          <a:xfrm>
            <a:off x="3924360" y="4998960"/>
            <a:ext cx="244440" cy="217440"/>
          </a:xfrm>
          <a:prstGeom prst="rect">
            <a:avLst/>
          </a:prstGeom>
          <a:ln w="0">
            <a:noFill/>
          </a:ln>
        </p:spPr>
      </p:pic>
      <p:pic>
        <p:nvPicPr>
          <p:cNvPr id="1001" name="Picture 1" descr=""/>
          <p:cNvPicPr/>
          <p:nvPr/>
        </p:nvPicPr>
        <p:blipFill>
          <a:blip r:embed="rId26"/>
          <a:stretch/>
        </p:blipFill>
        <p:spPr>
          <a:xfrm>
            <a:off x="4024440" y="5530680"/>
            <a:ext cx="244440" cy="21780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1" descr=""/>
          <p:cNvPicPr/>
          <p:nvPr/>
        </p:nvPicPr>
        <p:blipFill>
          <a:blip r:embed="rId27"/>
          <a:stretch/>
        </p:blipFill>
        <p:spPr>
          <a:xfrm>
            <a:off x="5767560" y="5530680"/>
            <a:ext cx="244440" cy="217800"/>
          </a:xfrm>
          <a:prstGeom prst="rect">
            <a:avLst/>
          </a:prstGeom>
          <a:ln w="0">
            <a:noFill/>
          </a:ln>
        </p:spPr>
      </p:pic>
      <p:pic>
        <p:nvPicPr>
          <p:cNvPr id="1003" name="Picture 1" descr=""/>
          <p:cNvPicPr/>
          <p:nvPr/>
        </p:nvPicPr>
        <p:blipFill>
          <a:blip r:embed="rId28"/>
          <a:stretch/>
        </p:blipFill>
        <p:spPr>
          <a:xfrm>
            <a:off x="5853240" y="4998960"/>
            <a:ext cx="244440" cy="21744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1" descr=""/>
          <p:cNvPicPr/>
          <p:nvPr/>
        </p:nvPicPr>
        <p:blipFill>
          <a:blip r:embed="rId29"/>
          <a:stretch/>
        </p:blipFill>
        <p:spPr>
          <a:xfrm>
            <a:off x="6170760" y="4522680"/>
            <a:ext cx="244440" cy="21744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1" descr=""/>
          <p:cNvPicPr/>
          <p:nvPr/>
        </p:nvPicPr>
        <p:blipFill>
          <a:blip r:embed="rId30"/>
          <a:stretch/>
        </p:blipFill>
        <p:spPr>
          <a:xfrm>
            <a:off x="6645240" y="4206960"/>
            <a:ext cx="244440" cy="21744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" descr=""/>
          <p:cNvPicPr/>
          <p:nvPr/>
        </p:nvPicPr>
        <p:blipFill>
          <a:blip r:embed="rId31"/>
          <a:stretch/>
        </p:blipFill>
        <p:spPr>
          <a:xfrm>
            <a:off x="7178760" y="4091040"/>
            <a:ext cx="244440" cy="217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32"/>
          <a:stretch/>
        </p:blipFill>
        <p:spPr>
          <a:xfrm>
            <a:off x="7711920" y="4192560"/>
            <a:ext cx="244800" cy="2174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3"/>
          <a:stretch/>
        </p:blipFill>
        <p:spPr>
          <a:xfrm>
            <a:off x="8186760" y="4522680"/>
            <a:ext cx="244440" cy="2174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4"/>
          <a:stretch/>
        </p:blipFill>
        <p:spPr>
          <a:xfrm>
            <a:off x="8489880" y="4998960"/>
            <a:ext cx="244440" cy="2174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35"/>
          <a:stretch/>
        </p:blipFill>
        <p:spPr>
          <a:xfrm>
            <a:off x="8604360" y="5530680"/>
            <a:ext cx="244440" cy="2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8193" descr=""/>
          <p:cNvPicPr/>
          <p:nvPr/>
        </p:nvPicPr>
        <p:blipFill>
          <a:blip r:embed="rId1"/>
          <a:stretch/>
        </p:blipFill>
        <p:spPr>
          <a:xfrm>
            <a:off x="52560" y="1647720"/>
            <a:ext cx="9038880" cy="356256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1908000" y="3716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3059280" y="41497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4716360" y="41497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7999560" y="41497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6"/>
          <a:stretch/>
        </p:blipFill>
        <p:spPr>
          <a:xfrm>
            <a:off x="1332000" y="45957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7"/>
          <a:stretch/>
        </p:blipFill>
        <p:spPr>
          <a:xfrm>
            <a:off x="4211640" y="4624560"/>
            <a:ext cx="2232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10:1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